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2.gif" ContentType="image/gi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4303-D4FD-42D1-A428-907E66898E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670CA-E9C0-4600-9992-1E2F8F1A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F8B131-7C3E-4706-AEC4-B6D6A1A6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FDCE48-DB8E-4803-BAA7-6F028B77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D74997-9FC2-4996-9661-A801AAAB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6F99C1-1A15-4B76-81AB-60801A42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089425-661F-4CC3-BD48-FC2CFA5E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88F7BF-291B-49AA-90E6-6BDA8AE4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F336B7-D897-449F-96CF-411E2F0B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2CF75F-5862-4760-82E6-CC9E2537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359927-0040-4311-938C-1D685CA779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1134F-0FCA-4962-A3D7-6E8B6F5A46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7539C-8B8C-4502-95DD-19074420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F11E0-BAA5-4C5A-987D-816886DA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A3E1E-D7AC-4F3B-B53F-0B471789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B44AA-0F55-4AD2-985D-C4FF118C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634B5-7A31-4BB3-8BA6-66A2C861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AD4FF-ABC4-4AE1-9D39-FC000785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AE52D-5979-4A5D-8454-EDE0C3E1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4CE01-A755-439D-BA46-E5CF84F7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9FDA0-368B-4C4B-A6CE-B170FE08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47A9E-84E7-44C5-8724-1A346033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64D09-7CB7-4F18-8655-C96E1DC7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C3805-CBFA-4EEA-B5F9-F5351AE7D9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1C40E-4335-4C8C-8CA0-5848E38168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5281A4-30E6-4CFB-89D6-E6121B3213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E8B1FC-5A62-4621-9CDA-7B551EA3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E3783D-06A3-4299-92C0-1EED0D3E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2004AD-772A-45E5-BE6B-4EAD54D7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4B7BF0-4D19-4865-9319-78196D67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7CCA07-EE4C-40F8-90EB-D7A6AEFA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1E8222-389E-44B3-AB8A-8F396968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77B010-0631-4F3F-A956-D957E6F2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861F83-74B0-4CC2-8950-EC0FA01A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90D59-0370-4227-8C41-F57BD296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9CC41A-A7D5-4194-998C-048C4016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CD85CF-E3D7-4380-BAFB-31F68E8F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2362C6-F3FA-4673-B2F4-D5F2CA19FF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11CA22-7D29-45E8-86BE-A338B878B6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2A7D22-1152-4E07-A446-E92113FE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8ADF71-0A04-4E1F-A321-F987F8ED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01DDA-53D7-4A6A-ADD0-78C3EC5D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283C1-231B-4CBC-A88D-9414AC13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B4CBD-7C4E-48FE-A1CC-8F928196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C5A88-EB06-4CB6-9731-E9810D09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D2EFD-9E9F-42C9-AD72-5BCB862B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4A41FB-DB38-49D9-B880-D3D61FF3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5051E-19AC-4D9A-A411-E3A1A810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758BE-EFDD-4A42-AEA7-15B531AF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6231B-AF9D-4EDA-AF06-AC280A95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E5DD7-E0C5-4967-96B1-AEB6555324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0BE1F-40EA-42C4-8F98-F29F73C715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7675C-A75C-43FB-8380-92D3CA2C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F871E-82CE-4707-A5C1-8CB21E58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B269F-6082-4132-82DA-E69BA96F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C6522-1D69-4E20-A702-7BF8D977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63E97-5628-42BC-B241-1E135384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D6C73-CBC0-42E2-813D-B9EE1B39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06CBD-AAAA-4B92-A0DA-18362E9C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114AC-9076-4E8C-BDD8-053EE993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DA85F-1880-436E-97AE-B9866D9F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272E0-0310-42D8-8B43-DCFDAA40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13699-7E4D-4C86-A5A7-5E06BD3D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4E513-0C84-426F-8FF9-77709C3287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60A64-E42F-4C24-A9A2-02A8ACF4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55310-DE7B-4209-9AD2-48A6D815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AE7F9-6FF4-40F4-811A-8929F57C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7B576-BAB3-48E4-990E-7B91C6D1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1C48C-84C3-40AF-89CE-F54C3F8B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4851F-E6F6-49C9-A0F5-8E6D6BF0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B1466-906F-43A2-B96F-A3726950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FFC0E-458A-4685-A479-4BC13F44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9A16D-E1FB-4C9A-B47E-BF4345CF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273C0-82A6-40D1-9E1C-5751D2F5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81C0B-8FF4-4511-914C-A46493D3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8776B-8C99-47EB-BB97-18303F78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5DCB5-A6C1-4639-941B-1D150303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51341-A38B-44EC-95DA-ADCB3EAD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CA3D3-CE22-4B15-B93F-E6616EEC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0DB6E-E3F0-4A0D-93BF-0F6ED792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D91CE-7D1B-4039-802D-30AD3BDB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57D39-2F10-44CB-9872-14B954E6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77243-7176-4023-9EC1-5F9FD38B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9DB56-B2A4-42C0-A6D0-29218B81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990B3-E309-411C-8610-E16422C9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7D91A-7771-42DC-9870-E5220022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76AE8-499B-4F87-B69B-87FAFC6E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37C8B-F6C6-4884-BEAD-3325AC61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B96B1-256A-4D96-9756-A0268440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71AD0-9C3A-498A-B70A-33397E4E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C413F-E814-49A3-97F3-EFA60454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D185A-BEC7-48BF-B2C6-5FC92874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B7BD1-D1E4-482C-BD92-00313175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3767B-30F8-4C09-B649-7B6A6E4E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DCDF3-B800-4648-A881-27BFF280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DCFFA-9B37-4CF5-A10B-AE773B9B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25BF8-7D01-4191-A06A-68AB0639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3CFDE-00EF-438D-BDAC-E42C5A41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8F7DD-1738-4870-AC4C-BE4D52E5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71EAF-698E-4EA9-B470-B0D729FF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64241-4579-4A4E-91C2-5B3620E5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C07DF-E097-4DE6-8025-C20272C4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464B3-B10B-4743-8BCB-4D42F916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39A40-68C1-4D72-B352-D502F1D0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C6C83-83EB-4609-A181-80DE8671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BC83E-86E6-46EA-9C80-AC1A0AF9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86524-D39B-4748-9123-9502EF8D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E3BB6-3A54-4CAC-A463-CCC6D888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D0AFF-91C7-4780-ADCC-1BA02F78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BF5FF-7CE2-43DB-918E-8FFEF95B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BCFC5-F4C5-4AC7-8031-033DA75C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77E56-8310-452E-A42E-AEF7C71C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915A2-87B5-4C4A-BA1E-EAB7BF22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6C3C5-EBA6-4B15-B2A4-6C83CBA3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23EBC-71CA-4F54-BB56-63038993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76677-1994-484E-8096-2F891F8B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4B6D3-574B-496A-AB7D-4D92FA2B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FFB33-3C7B-46A1-90BA-91C02A61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DA580-C55D-4334-9035-D1FA94C4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688569-D964-4C02-92C8-163846E6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575467-41B1-4F97-8394-E86D88DE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661F4-5BB2-401B-B159-1D875A21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7033E-7B86-49D9-AFF2-4FE3900F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32ECA-EFD1-4D4B-9ED7-E8BC69D0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BB6DA-5E03-4883-A0A0-A23A55F5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254D80-D4EC-4645-82BC-A8A89F83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82577F-77C4-4120-A26E-E1569019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C659CB-5186-4AF2-B143-4B55D2BE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B92A1-4699-427C-A4E0-52F85370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AC7C99-9342-4DDD-986A-40DA0E15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58AA9-1B2D-411D-AE75-69386508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FC3780-5F2E-48DB-BBAF-0526132E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3E80D0-3BA1-4EC8-9DA0-003E6DD7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ECE453-8F81-43AE-A7F4-853FC6C7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C809D-3D31-4FEC-91F3-B4DDE073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CCA0DC-6037-42B6-908C-815B1AEE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8808B4-6EFB-43D1-BC97-EF49B04C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4196F-1662-4ED9-AEFE-2EC7A872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D010B5-0FD1-4CA4-9AA6-EBF358E6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5D342-C226-412B-834C-226B2416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8CADDA-49E2-4830-87A0-04BA2421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77C807-AC74-4449-90F9-814C99FB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731836-9703-4FE0-ADCC-43DEDFCD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5F8931-E994-49D8-8C51-4883994C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9D682D-77E6-4566-B5AA-8C3CFD97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D5912-E1A6-457D-B29F-CEAC2E91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00D9CD-3C5B-4B39-AE3F-E5E86087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DB12A4-5B85-40EC-B769-BC5E2045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1A3AFC-E9B4-478A-8213-3F15713A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BA1511-2BC6-4C58-A244-650F113C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783B89-2FE9-4107-B79F-5EF30A90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B6A443-6E1F-4650-B7AF-055356F5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78CD59-6610-4CE0-8C8B-BE43AF3B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42E21C-C8BE-424A-9ECB-CC646916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171AE3-ABD2-487A-B7A3-9D1FB84E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15EB30-912A-411F-A59A-87B89057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4BFCE-D83F-480B-97F5-DCADFBA3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D1B1F7-CCD9-43EC-8B7B-5DEBD694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9E1AB5-5437-4BA3-ABF0-95AECE0D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EE8881-F4D4-4D59-8F03-477C5126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4CE49E-29F4-431C-A05E-82C14C06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A5AA75-C260-4EF8-B8FD-9692BC96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957FE4-E3AA-4D0B-B4A3-D88703C7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55092E-2DEC-4699-952A-A15D0180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67ACF4-5961-4029-85CA-872A4284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2DF847-33C8-4C1D-A65C-20342797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6A6E3D-A594-4A54-8148-C62D6A6F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2121EE-3AD1-4E78-9CFC-B51152EEEC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17D00C-BAA1-4D80-BAD4-3CDA1ABB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4C84AD-9EEE-4E66-BFBE-213799F6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7CE9A-2644-4077-969F-9527E4DC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40987A-DA70-46A8-9239-29C13BB5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4CCC5D-7550-42F1-A054-8B87F86B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734031-2557-407E-A46A-403815AD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D3BFDF-5677-49E3-BDB4-C121C17B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6A8E86-98AD-41D4-9778-EF1EFB65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CB9A98-D59E-4740-9227-04CE56F0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D50F92-71BC-4B85-8217-1C2110F8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A2C021-89BF-4845-A1ED-0B67BE86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EBA2E0-727D-4625-A94A-BAB88329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B580E4-0D6C-4B93-BFFC-B1CA94D6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61FD19-D229-4680-AD93-1E10E573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4413F8-3812-49E9-A127-A696BC5E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C607E8-3CAF-4E84-8054-0295866D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992A3C-75E6-4111-A234-6D7891AC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18B099-2164-4DB9-A13E-B1DDC92A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08BC94-3D6C-4F87-8C82-DB12A840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5A557D-3F1D-4031-B052-A272E443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F71467-6B4F-44A7-81E8-9066B925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0A64E1-1EAB-489D-8633-070CAAED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31DF9F-E7F6-4D01-A2D7-106BADF8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51D83E-C1F9-45C9-AD21-D1F82318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831609-B722-473C-9861-B48EC917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42BDD1-777C-46F5-9B03-F4EC6D77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AED182-58B1-4B6F-B5AF-385D5969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327CA1-46CE-4700-B49C-4F00B047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FB7B6C-796C-4CA1-ADE5-4DA134F8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A6A284-8491-49B6-BC95-133F68A2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3BBBAA-AAA6-4AB6-A0E9-2E9EF136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51061B-BB18-46F9-803B-7D877939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B656DA-C60A-45D2-B747-61C41828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626A1E-8CB3-4868-895E-83FB2542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DC6781-3C7B-43C3-AC0A-D6702D11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A6EE2F-FD40-4C42-A0D0-9E9B9FF3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D93121-42AC-4EE4-B8B1-7C1CA510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99ECFD-6412-4181-A718-78E4EB8F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42583B-163B-4327-BC74-B9BECAA5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0BBCA6-4E01-49E5-856A-99B21129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F71F5C-DEE4-4124-A4F8-C52FA0A8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9619E8-4D2C-45F1-B0DD-402C0610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F2A816-5471-4A2E-A302-8146CB7B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B5AA-63F3-453C-8351-D89BD6F2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2A94AA-CC24-48F4-81D1-D5F9A113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B36247-3F1F-492C-8C1C-3EF886D3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E8C273-385B-4C76-AAF0-4861BB52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A8992B-A461-4A76-8A70-5D1487FE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11A944-27AF-4025-89A0-EA07513A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DE04CD-E32E-47A0-846D-B7BD6C6A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FADC5B-F3EE-48D5-B46E-F47793E14A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FAB3C-5C14-411D-A2D6-7DE82284D3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3738D-F227-4604-95CE-6D73CC33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EF14F-8594-43C8-94FB-F936604D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52BE-71A3-49F4-9406-9CCFCC5C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AACC2-60C2-433F-B7C6-45C90F28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174CE-C2BF-41AF-9707-075B7411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256E-5531-4428-A45F-E895E803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1202B-3458-4ADB-9C4E-F6AE935E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4D256-3485-4477-A3FC-559280CA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F01A8-EFFE-4E38-B061-388D5793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7AE1A-1428-449C-874A-525E8AF3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64654-6783-4A50-8144-427B9C6D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3D015-181E-435D-92CE-49A1B65D03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0639A8-E6D6-44C7-8F21-DE45689CFA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89E2-B11C-44F9-98B8-C24F0D90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7E67B4-9BD9-40C8-A05E-C93AB9E3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22535D-43C0-46C4-968C-8DE113CD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6FDF58-44C4-470A-8D11-C98F1790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92946C-3BA8-408F-B861-EA3EA992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288CDF-C998-4D28-A3BC-A98DE8F8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DF01E1-AC2A-44AF-A1BC-C2412966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EC2529-82BE-4752-B5FD-C0D18424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3CF7C9-4D31-42BA-9CDD-B04F9A1F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6D51B0-1C69-4B55-A1B6-A491285B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5ACBC1-7FAF-4FDF-86FE-BDB2A084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BE4BB-21A4-4A1D-A0E1-93FDE900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DBA4BA-E368-4C52-835E-801D1C86B4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0E7277-8567-423B-85FB-6A23826F0A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BDE32C-E7D6-415F-B630-E5CEE7FC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92B98B-0B13-4B88-B172-834DCCB6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189349-8ABA-4428-BCBF-FFEDF621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06884D-432B-478A-9055-B33E935B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9C7A92-6986-422C-9AD3-B5118219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2B950D-BE71-495D-99DE-3A8708F4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7B8299-4B93-4867-927B-F1C497ED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A30ABF-9D26-4440-AA03-B33B79FE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DD306-FE18-433E-8254-3130B8DC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94D21F-B518-4E73-B7CD-9BE62234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A00F08-B1A5-4C8C-85D6-224ED634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91AC56-CE6E-4422-A84F-221B89540C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F10B4-2049-4A0D-96AD-5D61610269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7A985-CC51-4CD9-88B4-F53CBE13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78544-7EEA-4FFC-8C42-D5435C0A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97166-AFE6-417F-8CA0-CF0DC6D3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2C029-4423-447B-B533-54E0CCB2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832C8-4575-48D3-919D-8BD7683B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2AAA6-FC29-43A1-8550-E40B9FDE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42A3-A6C8-4DAA-B33F-E33DE4F1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0BEAE-E146-4727-BE84-695156F1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35609-2B88-40C9-BB80-0FE8DF5B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6AB90-DE93-4FD4-BB79-864C24D8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71995-1C4A-4A39-859A-3A0F8AF5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7115F-A123-4177-A746-8C0315432D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33075-DC32-4936-AD3C-E2B48D318D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58366-3F6A-4E0D-BCEE-1341F10E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188811-029C-49CB-B84B-C3F0DA15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90AA7-5965-44CE-9670-C8D21213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25F0BD-5490-4E7B-AA72-7041F113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53D56-0C42-42EA-847F-1EC5BBE0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E6F48-3A41-4375-8AF0-142EAF44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37615-23A9-45D5-B08E-C6D86430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0C226A-3403-4B34-9C62-D3FE420C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4F9AD9-1EA7-41D1-B1E4-8516FD35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E2BA0D-980E-4AB2-96DF-6A4E672E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FF2A22-F809-4DC4-BCBA-742F0B25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B44564-0C1C-4E3F-A774-BB08161BCD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0BF1EA-69E8-4F96-B05C-3DEF5327E7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6AD68C-F903-4E46-A081-A83419CA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FFC132-E653-4FA3-881A-17AFCA2F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8A67-69A6-447B-819C-2A71F3468FD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4F22-83D8-48F3-9BF7-57BA71AC1F2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3B17-F533-420A-BED4-4F9FE367192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E55E-21CF-467F-842B-5D74D4DCC54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0D11-9E3F-462C-BDDF-58BE3ADE0E8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9D55-E29A-474A-9202-CACBD2ED6E6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E7B2-B559-4FCC-841F-80F3655DB7F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399C-A39B-44A5-8A13-78674589A1B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59B9-5DC1-420A-B88E-EA2F057A160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0F1E-7147-44C8-881C-F9BB998721D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BCB3-93C5-490E-B464-74B23BA0A97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9D24-406E-4417-9D16-D91D6FD1145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223C-A157-4733-BDDE-99E4FE98BE7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FE99-B432-4328-B702-F9E3405C45E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8B46-CCB1-46F2-B9E3-2983FA2E91E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7335-CDF3-49B9-A8D3-FBCCBF904DD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BE66-C307-4142-BE7E-74277D5EE69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98EC-A0CB-47C1-B95E-883A63C6F9F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6AFA-A2F1-4247-B158-1A47F55F6E8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B871-EABC-4F85-972B-E59BD876BB1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4443-0DB0-48C2-82E1-46B7D590FCA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B1FB-A7D2-485A-B15F-CDB38994A38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2DD7-EA3F-4240-B36A-578C1B709DB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DA48-F808-48E4-9057-EEAC83E331B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114720" y="2703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68280" y="26640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   统    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3352680" cy="360"/>
            <a:chOff x="2284560" y="2448000"/>
            <a:chExt cx="33526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33526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3352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459080" y="174456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3"/>
          <p:cNvSpPr/>
          <p:nvPr/>
        </p:nvSpPr>
        <p:spPr>
          <a:xfrm>
            <a:off x="503280" y="71280"/>
            <a:ext cx="2990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复习回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"/>
          <p:cNvSpPr/>
          <p:nvPr/>
        </p:nvSpPr>
        <p:spPr>
          <a:xfrm>
            <a:off x="2121480" y="611280"/>
            <a:ext cx="4940640" cy="36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我们一般怎样画条形统计图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根据图纸的大小，画出两条相互垂直的射线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在水平射线上，适当分配条形的位置，确定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  </a:t>
            </a: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条的宽度和间隔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在与水平射线垂直的射线上根据数据大小的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  </a:t>
            </a: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体情况，确定一个长度单位表示的数量的多少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根据数据的大小画出长短不同的直条，并标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  </a:t>
            </a: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数量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 Box 4"/>
          <p:cNvSpPr/>
          <p:nvPr/>
        </p:nvSpPr>
        <p:spPr>
          <a:xfrm>
            <a:off x="3422160" y="755640"/>
            <a:ext cx="1764720" cy="24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画条形统计图时，我们要注意什么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同一条线上所画的间隔必须保持一致，直条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    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宽窄必须相同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一个长度单位表示数量的多少要根据具体情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  </a:t>
            </a: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而定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1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3" name="TextBox 3"/>
          <p:cNvSpPr/>
          <p:nvPr/>
        </p:nvSpPr>
        <p:spPr>
          <a:xfrm>
            <a:off x="515880" y="98280"/>
            <a:ext cx="2990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实践应用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7"/>
          <p:cNvSpPr/>
          <p:nvPr/>
        </p:nvSpPr>
        <p:spPr>
          <a:xfrm>
            <a:off x="4240080" y="958680"/>
            <a:ext cx="480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育民小学各年级男、女生戴近视镜的同学人数如下表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8" descr="125"/>
          <p:cNvPicPr/>
          <p:nvPr/>
        </p:nvPicPr>
        <p:blipFill>
          <a:blip r:embed="rId8"/>
          <a:stretch/>
        </p:blipFill>
        <p:spPr>
          <a:xfrm>
            <a:off x="398520" y="1557360"/>
            <a:ext cx="791352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组合 40961"/>
          <p:cNvGrpSpPr/>
          <p:nvPr/>
        </p:nvGrpSpPr>
        <p:grpSpPr>
          <a:xfrm>
            <a:off x="4716360" y="1301760"/>
            <a:ext cx="4391640" cy="3185280"/>
            <a:chOff x="4716360" y="1301760"/>
            <a:chExt cx="4391640" cy="3185280"/>
          </a:xfrm>
        </p:grpSpPr>
        <p:grpSp>
          <p:nvGrpSpPr>
            <p:cNvPr id="1027" name="Group 27"/>
            <p:cNvGrpSpPr/>
            <p:nvPr/>
          </p:nvGrpSpPr>
          <p:grpSpPr>
            <a:xfrm>
              <a:off x="5088960" y="1301760"/>
              <a:ext cx="4019040" cy="3185280"/>
              <a:chOff x="5088960" y="1301760"/>
              <a:chExt cx="4019040" cy="3185280"/>
            </a:xfrm>
          </p:grpSpPr>
          <p:pic>
            <p:nvPicPr>
              <p:cNvPr id="1028" name="Picture 10" descr="126"/>
              <p:cNvPicPr/>
              <p:nvPr/>
            </p:nvPicPr>
            <p:blipFill>
              <a:blip r:embed="rId1"/>
              <a:stretch/>
            </p:blipFill>
            <p:spPr>
              <a:xfrm>
                <a:off x="5333760" y="1652040"/>
                <a:ext cx="3625560" cy="2518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9" name="Group 29"/>
              <p:cNvGrpSpPr/>
              <p:nvPr/>
            </p:nvGrpSpPr>
            <p:grpSpPr>
              <a:xfrm>
                <a:off x="5592960" y="4130640"/>
                <a:ext cx="3515040" cy="356400"/>
                <a:chOff x="5592960" y="4130640"/>
                <a:chExt cx="3515040" cy="356400"/>
              </a:xfrm>
            </p:grpSpPr>
            <p:sp>
              <p:nvSpPr>
                <p:cNvPr id="1030" name="Text Box 14"/>
                <p:cNvSpPr/>
                <p:nvPr/>
              </p:nvSpPr>
              <p:spPr>
                <a:xfrm>
                  <a:off x="5592960" y="4149720"/>
                  <a:ext cx="312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一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Text Box 15"/>
                <p:cNvSpPr/>
                <p:nvPr/>
              </p:nvSpPr>
              <p:spPr>
                <a:xfrm>
                  <a:off x="6081840" y="4130640"/>
                  <a:ext cx="312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二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Text Box 16"/>
                <p:cNvSpPr/>
                <p:nvPr/>
              </p:nvSpPr>
              <p:spPr>
                <a:xfrm>
                  <a:off x="6586560" y="4130640"/>
                  <a:ext cx="312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三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Text Box 17"/>
                <p:cNvSpPr/>
                <p:nvPr/>
              </p:nvSpPr>
              <p:spPr>
                <a:xfrm>
                  <a:off x="7080480" y="4130640"/>
                  <a:ext cx="312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四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Text Box 18"/>
                <p:cNvSpPr/>
                <p:nvPr/>
              </p:nvSpPr>
              <p:spPr>
                <a:xfrm>
                  <a:off x="7568280" y="4130640"/>
                  <a:ext cx="312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五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Text Box 19"/>
                <p:cNvSpPr/>
                <p:nvPr/>
              </p:nvSpPr>
              <p:spPr>
                <a:xfrm>
                  <a:off x="8036640" y="4130640"/>
                  <a:ext cx="312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六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Text Box 20"/>
                <p:cNvSpPr/>
                <p:nvPr/>
              </p:nvSpPr>
              <p:spPr>
                <a:xfrm>
                  <a:off x="8434800" y="4130640"/>
                  <a:ext cx="67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年级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7" name="Group 30"/>
              <p:cNvGrpSpPr/>
              <p:nvPr/>
            </p:nvGrpSpPr>
            <p:grpSpPr>
              <a:xfrm>
                <a:off x="5088960" y="1301760"/>
                <a:ext cx="3231360" cy="2998440"/>
                <a:chOff x="5088960" y="1301760"/>
                <a:chExt cx="3231360" cy="2998440"/>
              </a:xfrm>
            </p:grpSpPr>
            <p:sp>
              <p:nvSpPr>
                <p:cNvPr id="1038" name="Text Box 12"/>
                <p:cNvSpPr/>
                <p:nvPr/>
              </p:nvSpPr>
              <p:spPr>
                <a:xfrm>
                  <a:off x="5109480" y="130176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人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Rectangle 13"/>
                <p:cNvSpPr/>
                <p:nvPr/>
              </p:nvSpPr>
              <p:spPr>
                <a:xfrm>
                  <a:off x="5617440" y="1595520"/>
                  <a:ext cx="2702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女生戴近视镜的人数统计图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Text Box 21"/>
                <p:cNvSpPr/>
                <p:nvPr/>
              </p:nvSpPr>
              <p:spPr>
                <a:xfrm>
                  <a:off x="5088960" y="3947040"/>
                  <a:ext cx="312840" cy="3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1" name="Text Box 22"/>
            <p:cNvSpPr/>
            <p:nvPr/>
          </p:nvSpPr>
          <p:spPr>
            <a:xfrm>
              <a:off x="4749120" y="363708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23"/>
            <p:cNvSpPr/>
            <p:nvPr/>
          </p:nvSpPr>
          <p:spPr>
            <a:xfrm>
              <a:off x="4716360" y="3343320"/>
              <a:ext cx="9345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24"/>
            <p:cNvSpPr/>
            <p:nvPr/>
          </p:nvSpPr>
          <p:spPr>
            <a:xfrm>
              <a:off x="4749120" y="303732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25"/>
            <p:cNvSpPr/>
            <p:nvPr/>
          </p:nvSpPr>
          <p:spPr>
            <a:xfrm>
              <a:off x="4743000" y="272412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26"/>
            <p:cNvSpPr/>
            <p:nvPr/>
          </p:nvSpPr>
          <p:spPr>
            <a:xfrm>
              <a:off x="4743000" y="242568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27"/>
            <p:cNvSpPr/>
            <p:nvPr/>
          </p:nvSpPr>
          <p:spPr>
            <a:xfrm>
              <a:off x="4739760" y="210492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28"/>
            <p:cNvSpPr/>
            <p:nvPr/>
          </p:nvSpPr>
          <p:spPr>
            <a:xfrm>
              <a:off x="4743000" y="182232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Rectangle 9"/>
          <p:cNvSpPr/>
          <p:nvPr/>
        </p:nvSpPr>
        <p:spPr>
          <a:xfrm>
            <a:off x="3129840" y="733320"/>
            <a:ext cx="33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根据上表中的数据完成下面的条形图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组合 40987"/>
          <p:cNvGrpSpPr/>
          <p:nvPr/>
        </p:nvGrpSpPr>
        <p:grpSpPr>
          <a:xfrm>
            <a:off x="355680" y="1303200"/>
            <a:ext cx="4435200" cy="3184560"/>
            <a:chOff x="355680" y="1303200"/>
            <a:chExt cx="4435200" cy="3184560"/>
          </a:xfrm>
        </p:grpSpPr>
        <p:pic>
          <p:nvPicPr>
            <p:cNvPr id="1050" name="Picture 10" descr="126"/>
            <p:cNvPicPr/>
            <p:nvPr/>
          </p:nvPicPr>
          <p:blipFill>
            <a:blip r:embed="rId2"/>
            <a:stretch/>
          </p:blipFill>
          <p:spPr>
            <a:xfrm>
              <a:off x="1026000" y="1653480"/>
              <a:ext cx="3624480" cy="251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1" name="Group 29"/>
            <p:cNvGrpSpPr/>
            <p:nvPr/>
          </p:nvGrpSpPr>
          <p:grpSpPr>
            <a:xfrm>
              <a:off x="1285200" y="4131360"/>
              <a:ext cx="3505680" cy="356400"/>
              <a:chOff x="1285200" y="4131360"/>
              <a:chExt cx="3505680" cy="356400"/>
            </a:xfrm>
          </p:grpSpPr>
          <p:sp>
            <p:nvSpPr>
              <p:cNvPr id="1052" name="Text Box 14"/>
              <p:cNvSpPr/>
              <p:nvPr/>
            </p:nvSpPr>
            <p:spPr>
              <a:xfrm>
                <a:off x="1285200" y="4150440"/>
                <a:ext cx="312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一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 Box 15"/>
              <p:cNvSpPr/>
              <p:nvPr/>
            </p:nvSpPr>
            <p:spPr>
              <a:xfrm>
                <a:off x="1774080" y="4131360"/>
                <a:ext cx="312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二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 Box 16"/>
              <p:cNvSpPr/>
              <p:nvPr/>
            </p:nvSpPr>
            <p:spPr>
              <a:xfrm>
                <a:off x="2278800" y="4131360"/>
                <a:ext cx="312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三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17"/>
              <p:cNvSpPr/>
              <p:nvPr/>
            </p:nvSpPr>
            <p:spPr>
              <a:xfrm>
                <a:off x="2772720" y="4131360"/>
                <a:ext cx="312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四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 Box 18"/>
              <p:cNvSpPr/>
              <p:nvPr/>
            </p:nvSpPr>
            <p:spPr>
              <a:xfrm>
                <a:off x="3260520" y="4131360"/>
                <a:ext cx="31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 Box 19"/>
              <p:cNvSpPr/>
              <p:nvPr/>
            </p:nvSpPr>
            <p:spPr>
              <a:xfrm>
                <a:off x="3728880" y="4131360"/>
                <a:ext cx="31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六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 Box 20"/>
              <p:cNvSpPr/>
              <p:nvPr/>
            </p:nvSpPr>
            <p:spPr>
              <a:xfrm>
                <a:off x="4117680" y="4131360"/>
                <a:ext cx="67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年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Text Box 12"/>
            <p:cNvSpPr/>
            <p:nvPr/>
          </p:nvSpPr>
          <p:spPr>
            <a:xfrm>
              <a:off x="801360" y="1303200"/>
              <a:ext cx="9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13"/>
            <p:cNvSpPr/>
            <p:nvPr/>
          </p:nvSpPr>
          <p:spPr>
            <a:xfrm>
              <a:off x="1309320" y="1596240"/>
              <a:ext cx="27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男生戴近视镜的人数统计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Text Box 21"/>
            <p:cNvSpPr/>
            <p:nvPr/>
          </p:nvSpPr>
          <p:spPr>
            <a:xfrm>
              <a:off x="780480" y="3947760"/>
              <a:ext cx="3128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Text Box 22"/>
            <p:cNvSpPr/>
            <p:nvPr/>
          </p:nvSpPr>
          <p:spPr>
            <a:xfrm>
              <a:off x="389880" y="365580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Text Box 23"/>
            <p:cNvSpPr/>
            <p:nvPr/>
          </p:nvSpPr>
          <p:spPr>
            <a:xfrm>
              <a:off x="355680" y="3362400"/>
              <a:ext cx="9345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Text Box 24"/>
            <p:cNvSpPr/>
            <p:nvPr/>
          </p:nvSpPr>
          <p:spPr>
            <a:xfrm>
              <a:off x="389880" y="305568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25"/>
            <p:cNvSpPr/>
            <p:nvPr/>
          </p:nvSpPr>
          <p:spPr>
            <a:xfrm>
              <a:off x="383400" y="274320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Text Box 26"/>
            <p:cNvSpPr/>
            <p:nvPr/>
          </p:nvSpPr>
          <p:spPr>
            <a:xfrm>
              <a:off x="383400" y="244476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Text Box 27"/>
            <p:cNvSpPr/>
            <p:nvPr/>
          </p:nvSpPr>
          <p:spPr>
            <a:xfrm>
              <a:off x="380160" y="212400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28"/>
            <p:cNvSpPr/>
            <p:nvPr/>
          </p:nvSpPr>
          <p:spPr>
            <a:xfrm>
              <a:off x="383400" y="184140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组合 41007"/>
          <p:cNvGrpSpPr/>
          <p:nvPr/>
        </p:nvGrpSpPr>
        <p:grpSpPr>
          <a:xfrm>
            <a:off x="1227240" y="1944720"/>
            <a:ext cx="2900160" cy="2195640"/>
            <a:chOff x="1227240" y="1944720"/>
            <a:chExt cx="2900160" cy="2195640"/>
          </a:xfrm>
        </p:grpSpPr>
        <p:grpSp>
          <p:nvGrpSpPr>
            <p:cNvPr id="1070" name="组合 41008"/>
            <p:cNvGrpSpPr/>
            <p:nvPr/>
          </p:nvGrpSpPr>
          <p:grpSpPr>
            <a:xfrm>
              <a:off x="1227240" y="2187360"/>
              <a:ext cx="2792880" cy="1953000"/>
              <a:chOff x="1227240" y="2187360"/>
              <a:chExt cx="2792880" cy="1953000"/>
            </a:xfrm>
          </p:grpSpPr>
          <p:grpSp>
            <p:nvGrpSpPr>
              <p:cNvPr id="1071" name="Group 48"/>
              <p:cNvGrpSpPr/>
              <p:nvPr/>
            </p:nvGrpSpPr>
            <p:grpSpPr>
              <a:xfrm>
                <a:off x="1344600" y="2187360"/>
                <a:ext cx="2675520" cy="1953000"/>
                <a:chOff x="1344600" y="2187360"/>
                <a:chExt cx="2675520" cy="1953000"/>
              </a:xfrm>
            </p:grpSpPr>
            <p:sp>
              <p:nvSpPr>
                <p:cNvPr id="1072" name="矩形 1"/>
                <p:cNvSpPr/>
                <p:nvPr/>
              </p:nvSpPr>
              <p:spPr>
                <a:xfrm>
                  <a:off x="1344600" y="3946680"/>
                  <a:ext cx="241200" cy="19368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矩形 2"/>
                <p:cNvSpPr/>
                <p:nvPr/>
              </p:nvSpPr>
              <p:spPr>
                <a:xfrm>
                  <a:off x="1832400" y="3822840"/>
                  <a:ext cx="241200" cy="31752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矩形 34"/>
                <p:cNvSpPr/>
                <p:nvPr/>
              </p:nvSpPr>
              <p:spPr>
                <a:xfrm>
                  <a:off x="2321280" y="3525480"/>
                  <a:ext cx="241200" cy="61488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矩形 35"/>
                <p:cNvSpPr/>
                <p:nvPr/>
              </p:nvSpPr>
              <p:spPr>
                <a:xfrm>
                  <a:off x="2810160" y="2976120"/>
                  <a:ext cx="241200" cy="116424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矩形 36"/>
                <p:cNvSpPr/>
                <p:nvPr/>
              </p:nvSpPr>
              <p:spPr>
                <a:xfrm>
                  <a:off x="3297600" y="2610720"/>
                  <a:ext cx="241200" cy="152928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矩形 37"/>
                <p:cNvSpPr/>
                <p:nvPr/>
              </p:nvSpPr>
              <p:spPr>
                <a:xfrm>
                  <a:off x="3778920" y="2187360"/>
                  <a:ext cx="241200" cy="195300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8" name="Rectangle 51"/>
              <p:cNvSpPr/>
              <p:nvPr/>
            </p:nvSpPr>
            <p:spPr>
              <a:xfrm>
                <a:off x="1227240" y="3692520"/>
                <a:ext cx="461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mbria"/>
                    <a:ea typeface="黑体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51"/>
              <p:cNvSpPr/>
              <p:nvPr/>
            </p:nvSpPr>
            <p:spPr>
              <a:xfrm>
                <a:off x="1714680" y="3562200"/>
                <a:ext cx="46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mbria"/>
                    <a:ea typeface="黑体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51"/>
              <p:cNvSpPr/>
              <p:nvPr/>
            </p:nvSpPr>
            <p:spPr>
              <a:xfrm>
                <a:off x="2201400" y="3267000"/>
                <a:ext cx="461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mbria"/>
                    <a:ea typeface="黑体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51"/>
              <p:cNvSpPr/>
              <p:nvPr/>
            </p:nvSpPr>
            <p:spPr>
              <a:xfrm>
                <a:off x="2690280" y="2725920"/>
                <a:ext cx="461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mbria"/>
                    <a:ea typeface="黑体"/>
                  </a:rPr>
                  <a:t>1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51"/>
              <p:cNvSpPr/>
              <p:nvPr/>
            </p:nvSpPr>
            <p:spPr>
              <a:xfrm>
                <a:off x="3177720" y="2342880"/>
                <a:ext cx="46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mbria"/>
                    <a:ea typeface="黑体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3" name="Rectangle 51"/>
            <p:cNvSpPr/>
            <p:nvPr/>
          </p:nvSpPr>
          <p:spPr>
            <a:xfrm>
              <a:off x="3665160" y="1944720"/>
              <a:ext cx="46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组合 41022"/>
          <p:cNvGrpSpPr/>
          <p:nvPr/>
        </p:nvGrpSpPr>
        <p:grpSpPr>
          <a:xfrm>
            <a:off x="5538960" y="2054160"/>
            <a:ext cx="2844720" cy="2087280"/>
            <a:chOff x="5538960" y="2054160"/>
            <a:chExt cx="2844720" cy="2087280"/>
          </a:xfrm>
        </p:grpSpPr>
        <p:sp>
          <p:nvSpPr>
            <p:cNvPr id="1085" name="Rectangle 51"/>
            <p:cNvSpPr/>
            <p:nvPr/>
          </p:nvSpPr>
          <p:spPr>
            <a:xfrm>
              <a:off x="5538960" y="37684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51"/>
            <p:cNvSpPr/>
            <p:nvPr/>
          </p:nvSpPr>
          <p:spPr>
            <a:xfrm>
              <a:off x="6026400" y="3670200"/>
              <a:ext cx="40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51"/>
            <p:cNvSpPr/>
            <p:nvPr/>
          </p:nvSpPr>
          <p:spPr>
            <a:xfrm>
              <a:off x="6513480" y="3208320"/>
              <a:ext cx="4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51"/>
            <p:cNvSpPr/>
            <p:nvPr/>
          </p:nvSpPr>
          <p:spPr>
            <a:xfrm>
              <a:off x="7001280" y="2555640"/>
              <a:ext cx="40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51"/>
            <p:cNvSpPr/>
            <p:nvPr/>
          </p:nvSpPr>
          <p:spPr>
            <a:xfrm>
              <a:off x="7486920" y="23684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51"/>
            <p:cNvSpPr/>
            <p:nvPr/>
          </p:nvSpPr>
          <p:spPr>
            <a:xfrm>
              <a:off x="7974000" y="205416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Group 67"/>
            <p:cNvGrpSpPr/>
            <p:nvPr/>
          </p:nvGrpSpPr>
          <p:grpSpPr>
            <a:xfrm>
              <a:off x="5649120" y="2309760"/>
              <a:ext cx="2674440" cy="1831680"/>
              <a:chOff x="5649120" y="2309760"/>
              <a:chExt cx="2674440" cy="1831680"/>
            </a:xfrm>
          </p:grpSpPr>
          <p:sp>
            <p:nvSpPr>
              <p:cNvPr id="1092" name="矩形 38"/>
              <p:cNvSpPr/>
              <p:nvPr/>
            </p:nvSpPr>
            <p:spPr>
              <a:xfrm>
                <a:off x="5649120" y="4012560"/>
                <a:ext cx="241200" cy="128520"/>
              </a:xfrm>
              <a:prstGeom prst="rect">
                <a:avLst/>
              </a:prstGeom>
              <a:solidFill>
                <a:srgbClr val="f7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矩形 39"/>
              <p:cNvSpPr/>
              <p:nvPr/>
            </p:nvSpPr>
            <p:spPr>
              <a:xfrm>
                <a:off x="6136560" y="3912840"/>
                <a:ext cx="239040" cy="228240"/>
              </a:xfrm>
              <a:prstGeom prst="rect">
                <a:avLst/>
              </a:prstGeom>
              <a:solidFill>
                <a:srgbClr val="f7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矩形 40"/>
              <p:cNvSpPr/>
              <p:nvPr/>
            </p:nvSpPr>
            <p:spPr>
              <a:xfrm>
                <a:off x="6622200" y="3452760"/>
                <a:ext cx="241200" cy="688680"/>
              </a:xfrm>
              <a:prstGeom prst="rect">
                <a:avLst/>
              </a:prstGeom>
              <a:solidFill>
                <a:srgbClr val="f7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矩形 41"/>
              <p:cNvSpPr/>
              <p:nvPr/>
            </p:nvSpPr>
            <p:spPr>
              <a:xfrm>
                <a:off x="7108920" y="2798280"/>
                <a:ext cx="241200" cy="1342800"/>
              </a:xfrm>
              <a:prstGeom prst="rect">
                <a:avLst/>
              </a:prstGeom>
              <a:solidFill>
                <a:srgbClr val="f7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矩形 42"/>
              <p:cNvSpPr/>
              <p:nvPr/>
            </p:nvSpPr>
            <p:spPr>
              <a:xfrm>
                <a:off x="7594920" y="2612520"/>
                <a:ext cx="240840" cy="1528920"/>
              </a:xfrm>
              <a:prstGeom prst="rect">
                <a:avLst/>
              </a:prstGeom>
              <a:solidFill>
                <a:srgbClr val="f7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矩形 43"/>
              <p:cNvSpPr/>
              <p:nvPr/>
            </p:nvSpPr>
            <p:spPr>
              <a:xfrm>
                <a:off x="8082360" y="2309760"/>
                <a:ext cx="241200" cy="1831680"/>
              </a:xfrm>
              <a:prstGeom prst="rect">
                <a:avLst/>
              </a:prstGeom>
              <a:solidFill>
                <a:srgbClr val="f7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8" name="组合 41036"/>
          <p:cNvGrpSpPr/>
          <p:nvPr/>
        </p:nvGrpSpPr>
        <p:grpSpPr>
          <a:xfrm>
            <a:off x="572400" y="1841400"/>
            <a:ext cx="571320" cy="2180880"/>
            <a:chOff x="572400" y="1841400"/>
            <a:chExt cx="571320" cy="2180880"/>
          </a:xfrm>
        </p:grpSpPr>
        <p:sp>
          <p:nvSpPr>
            <p:cNvPr id="1099" name="文本框 41037"/>
            <p:cNvSpPr/>
            <p:nvPr/>
          </p:nvSpPr>
          <p:spPr>
            <a:xfrm>
              <a:off x="592560" y="184140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5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文本框 41038"/>
            <p:cNvSpPr/>
            <p:nvPr/>
          </p:nvSpPr>
          <p:spPr>
            <a:xfrm>
              <a:off x="592560" y="213192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0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文本框 41039"/>
            <p:cNvSpPr/>
            <p:nvPr/>
          </p:nvSpPr>
          <p:spPr>
            <a:xfrm>
              <a:off x="602280" y="245340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5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文本框 41040"/>
            <p:cNvSpPr/>
            <p:nvPr/>
          </p:nvSpPr>
          <p:spPr>
            <a:xfrm>
              <a:off x="603360" y="273528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0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文本框 41041"/>
            <p:cNvSpPr/>
            <p:nvPr/>
          </p:nvSpPr>
          <p:spPr>
            <a:xfrm>
              <a:off x="602280" y="304632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5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文本框 41042"/>
            <p:cNvSpPr/>
            <p:nvPr/>
          </p:nvSpPr>
          <p:spPr>
            <a:xfrm>
              <a:off x="572400" y="336816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0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文本框 41043"/>
            <p:cNvSpPr/>
            <p:nvPr/>
          </p:nvSpPr>
          <p:spPr>
            <a:xfrm>
              <a:off x="651960" y="3669120"/>
              <a:ext cx="419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5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组合 41044"/>
          <p:cNvGrpSpPr/>
          <p:nvPr/>
        </p:nvGrpSpPr>
        <p:grpSpPr>
          <a:xfrm>
            <a:off x="4935600" y="1822320"/>
            <a:ext cx="571320" cy="2181240"/>
            <a:chOff x="4935600" y="1822320"/>
            <a:chExt cx="571320" cy="2181240"/>
          </a:xfrm>
        </p:grpSpPr>
        <p:sp>
          <p:nvSpPr>
            <p:cNvPr id="1107" name="文本框 41045"/>
            <p:cNvSpPr/>
            <p:nvPr/>
          </p:nvSpPr>
          <p:spPr>
            <a:xfrm>
              <a:off x="4955760" y="182232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5 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文本框 41046"/>
            <p:cNvSpPr/>
            <p:nvPr/>
          </p:nvSpPr>
          <p:spPr>
            <a:xfrm>
              <a:off x="4955760" y="211284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0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文本框 41047"/>
            <p:cNvSpPr/>
            <p:nvPr/>
          </p:nvSpPr>
          <p:spPr>
            <a:xfrm>
              <a:off x="4965480" y="243432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5 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文本框 41048"/>
            <p:cNvSpPr/>
            <p:nvPr/>
          </p:nvSpPr>
          <p:spPr>
            <a:xfrm>
              <a:off x="4966560" y="271620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0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文本框 41049"/>
            <p:cNvSpPr/>
            <p:nvPr/>
          </p:nvSpPr>
          <p:spPr>
            <a:xfrm>
              <a:off x="4965480" y="302724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5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文本框 41050"/>
            <p:cNvSpPr/>
            <p:nvPr/>
          </p:nvSpPr>
          <p:spPr>
            <a:xfrm>
              <a:off x="4935600" y="334908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0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文本框 41051"/>
            <p:cNvSpPr/>
            <p:nvPr/>
          </p:nvSpPr>
          <p:spPr>
            <a:xfrm>
              <a:off x="5015520" y="3650400"/>
              <a:ext cx="419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5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文本框 1"/>
          <p:cNvSpPr/>
          <p:nvPr/>
        </p:nvSpPr>
        <p:spPr>
          <a:xfrm>
            <a:off x="1464840" y="44658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四年级戴近视镜的有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098080" y="4946760"/>
            <a:ext cx="28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+22=4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四年级戴近视镜的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 Box 2"/>
          <p:cNvSpPr/>
          <p:nvPr/>
        </p:nvSpPr>
        <p:spPr>
          <a:xfrm>
            <a:off x="1838160" y="157320"/>
            <a:ext cx="489096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哪几个年级戴近视镜的人数比较多？哪几个年级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戴近视镜的男生比女生多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3"/>
          <p:cNvGrpSpPr/>
          <p:nvPr/>
        </p:nvGrpSpPr>
        <p:grpSpPr>
          <a:xfrm>
            <a:off x="654120" y="3068640"/>
            <a:ext cx="3196440" cy="1754280"/>
            <a:chOff x="654120" y="3068640"/>
            <a:chExt cx="3196440" cy="1754280"/>
          </a:xfrm>
        </p:grpSpPr>
        <p:pic>
          <p:nvPicPr>
            <p:cNvPr id="1118" name="Picture 4" descr="E:\2017秋上·黄倩\其他\人\海豚.jpg海豚"/>
            <p:cNvPicPr/>
            <p:nvPr/>
          </p:nvPicPr>
          <p:blipFill>
            <a:blip r:embed="rId1"/>
            <a:stretch/>
          </p:blipFill>
          <p:spPr>
            <a:xfrm>
              <a:off x="654120" y="3790440"/>
              <a:ext cx="849960" cy="10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9" name="Text Box 5"/>
            <p:cNvSpPr/>
            <p:nvPr/>
          </p:nvSpPr>
          <p:spPr>
            <a:xfrm>
              <a:off x="1910880" y="3149280"/>
              <a:ext cx="1514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你还能提出什么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数学问题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AutoShape 6"/>
            <p:cNvSpPr/>
            <p:nvPr/>
          </p:nvSpPr>
          <p:spPr>
            <a:xfrm>
              <a:off x="1403280" y="3068640"/>
              <a:ext cx="2447280" cy="936000"/>
            </a:xfrm>
            <a:prstGeom prst="wedgeRoundRectCallout">
              <a:avLst>
                <a:gd name="adj1" fmla="val -43750"/>
                <a:gd name="adj2" fmla="val 70000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Group 7"/>
          <p:cNvGrpSpPr/>
          <p:nvPr/>
        </p:nvGrpSpPr>
        <p:grpSpPr>
          <a:xfrm>
            <a:off x="4429080" y="2924280"/>
            <a:ext cx="4120920" cy="2052000"/>
            <a:chOff x="4429080" y="2924280"/>
            <a:chExt cx="4120920" cy="2052000"/>
          </a:xfrm>
        </p:grpSpPr>
        <p:pic>
          <p:nvPicPr>
            <p:cNvPr id="1122" name="Picture 8" descr="E:\2017秋上·黄倩\其他\人\蜜蜂.gif蜜蜂"/>
            <p:cNvPicPr/>
            <p:nvPr/>
          </p:nvPicPr>
          <p:blipFill>
            <a:blip r:embed="rId2"/>
            <a:stretch/>
          </p:blipFill>
          <p:spPr>
            <a:xfrm>
              <a:off x="7668720" y="4005720"/>
              <a:ext cx="881280" cy="97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Text Box 9"/>
            <p:cNvSpPr/>
            <p:nvPr/>
          </p:nvSpPr>
          <p:spPr>
            <a:xfrm>
              <a:off x="5068800" y="2955600"/>
              <a:ext cx="208584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在回答第二个问题时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对比看两个统计图，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觉方便吗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AutoShape 10"/>
            <p:cNvSpPr/>
            <p:nvPr/>
          </p:nvSpPr>
          <p:spPr>
            <a:xfrm>
              <a:off x="4429080" y="2924280"/>
              <a:ext cx="3384720" cy="1295640"/>
            </a:xfrm>
            <a:prstGeom prst="wedgeRoundRectCallout">
              <a:avLst>
                <a:gd name="adj1" fmla="val 42194"/>
                <a:gd name="adj2" fmla="val 62787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5" name="Text Box 4"/>
          <p:cNvSpPr/>
          <p:nvPr/>
        </p:nvSpPr>
        <p:spPr>
          <a:xfrm>
            <a:off x="2828520" y="1866960"/>
            <a:ext cx="45698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四、五、六年级戴近视镜的人数比较多。一、二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六年级戴近视镜的男生比女生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4"/>
          <p:cNvSpPr/>
          <p:nvPr/>
        </p:nvSpPr>
        <p:spPr>
          <a:xfrm>
            <a:off x="5541120" y="4425840"/>
            <a:ext cx="782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不方便，不如合并在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起更方便一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2616120" y="671400"/>
            <a:ext cx="157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我国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006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年自然保护区的数量如下表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8" name=""/>
          <p:cNvGraphicFramePr/>
          <p:nvPr/>
        </p:nvGraphicFramePr>
        <p:xfrm>
          <a:off x="684360" y="1260360"/>
          <a:ext cx="7199280" cy="838080"/>
        </p:xfrm>
        <a:graphic>
          <a:graphicData uri="http://schemas.openxmlformats.org/drawingml/2006/table">
            <a:tbl>
              <a:tblPr/>
              <a:tblGrid>
                <a:gridCol w="1440000"/>
                <a:gridCol w="1438200"/>
                <a:gridCol w="1439640"/>
                <a:gridCol w="1440000"/>
                <a:gridCol w="1441440"/>
              </a:tblGrid>
              <a:tr h="4237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  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国家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省  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市  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县  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量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9" name="Rectangle 7"/>
          <p:cNvSpPr/>
          <p:nvPr/>
        </p:nvSpPr>
        <p:spPr>
          <a:xfrm>
            <a:off x="3062880" y="2286000"/>
            <a:ext cx="33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请根据以上数据完成下面的条形图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组合 43033"/>
          <p:cNvGrpSpPr/>
          <p:nvPr/>
        </p:nvGrpSpPr>
        <p:grpSpPr>
          <a:xfrm>
            <a:off x="542880" y="3117960"/>
            <a:ext cx="3816360" cy="2711520"/>
            <a:chOff x="542880" y="3117960"/>
            <a:chExt cx="3816360" cy="2711520"/>
          </a:xfrm>
        </p:grpSpPr>
        <p:pic>
          <p:nvPicPr>
            <p:cNvPr id="1131" name="Picture 29" descr="106"/>
            <p:cNvPicPr/>
            <p:nvPr/>
          </p:nvPicPr>
          <p:blipFill>
            <a:blip r:embed="rId1"/>
            <a:stretch/>
          </p:blipFill>
          <p:spPr>
            <a:xfrm>
              <a:off x="542880" y="3117960"/>
              <a:ext cx="381636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2" name="Rectangle 30"/>
            <p:cNvSpPr/>
            <p:nvPr/>
          </p:nvSpPr>
          <p:spPr>
            <a:xfrm>
              <a:off x="1333440" y="5045400"/>
              <a:ext cx="360720" cy="593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32"/>
            <p:cNvSpPr/>
            <p:nvPr/>
          </p:nvSpPr>
          <p:spPr>
            <a:xfrm>
              <a:off x="1227240" y="4692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组合 43037"/>
          <p:cNvGrpSpPr/>
          <p:nvPr/>
        </p:nvGrpSpPr>
        <p:grpSpPr>
          <a:xfrm>
            <a:off x="1801800" y="3218040"/>
            <a:ext cx="2206800" cy="2428560"/>
            <a:chOff x="1801800" y="3218040"/>
            <a:chExt cx="2206800" cy="2428560"/>
          </a:xfrm>
        </p:grpSpPr>
        <p:sp>
          <p:nvSpPr>
            <p:cNvPr id="1135" name="矩形 2"/>
            <p:cNvSpPr/>
            <p:nvPr/>
          </p:nvSpPr>
          <p:spPr>
            <a:xfrm>
              <a:off x="2030400" y="3860640"/>
              <a:ext cx="361800" cy="17683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矩形 2"/>
            <p:cNvSpPr/>
            <p:nvPr/>
          </p:nvSpPr>
          <p:spPr>
            <a:xfrm>
              <a:off x="2722680" y="4646520"/>
              <a:ext cx="361800" cy="982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矩形 2"/>
            <p:cNvSpPr/>
            <p:nvPr/>
          </p:nvSpPr>
          <p:spPr>
            <a:xfrm>
              <a:off x="3398760" y="3574800"/>
              <a:ext cx="361800" cy="20718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Rectangle 51"/>
            <p:cNvSpPr/>
            <p:nvPr/>
          </p:nvSpPr>
          <p:spPr>
            <a:xfrm>
              <a:off x="1801800" y="356184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79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51"/>
            <p:cNvSpPr/>
            <p:nvPr/>
          </p:nvSpPr>
          <p:spPr>
            <a:xfrm>
              <a:off x="2516040" y="434808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4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51"/>
            <p:cNvSpPr/>
            <p:nvPr/>
          </p:nvSpPr>
          <p:spPr>
            <a:xfrm>
              <a:off x="3230640" y="321804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9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411120" y="696960"/>
            <a:ext cx="753120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我国哪类自然保护区最多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7"/>
          <p:cNvSpPr/>
          <p:nvPr/>
        </p:nvSpPr>
        <p:spPr>
          <a:xfrm>
            <a:off x="396720" y="2789280"/>
            <a:ext cx="78994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我国自然保护区的总数量是多少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51"/>
          <p:cNvSpPr/>
          <p:nvPr/>
        </p:nvSpPr>
        <p:spPr>
          <a:xfrm>
            <a:off x="631800" y="154944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我国县级自然保护区最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51"/>
          <p:cNvSpPr/>
          <p:nvPr/>
        </p:nvSpPr>
        <p:spPr>
          <a:xfrm>
            <a:off x="719280" y="3706920"/>
            <a:ext cx="549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65+793+422+915=239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我国自然保护区的总数量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39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4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4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6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32"/>
          <p:cNvSpPr/>
          <p:nvPr/>
        </p:nvSpPr>
        <p:spPr>
          <a:xfrm>
            <a:off x="1424160" y="1162080"/>
            <a:ext cx="607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涂色表示统计图，每格表示几个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数据里有几个几，就把几格涂颜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观察分析表或图，解决问题不会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06:00:40Z</dcterms:created>
  <dc:creator/>
  <dc:description/>
  <dc:language>en-US</dc:language>
  <cp:lastModifiedBy>万润仪器贸易公司</cp:lastModifiedBy>
  <dcterms:modified xsi:type="dcterms:W3CDTF">2020-08-21T09:04:49Z</dcterms:modified>
  <cp:revision>2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